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F6D-1B3E-4930-9BA4-F4FD897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456-811D-45EC-BC42-8150C15A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CC8-D3B1-4E67-884B-107DDBE2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A25-0C1D-4599-BEE4-9F7258A1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F7C-4E19-4628-AB86-2E24813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C43-9235-4403-863D-AEC75BD2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21E-C36D-4A6B-B2C6-37A6F2F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B1A-4468-4E26-8117-77D574B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248-3977-40D2-AF0A-2792CDC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FEF-51CC-4C10-9C7D-631C0C5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2F1-52E2-4C3E-A0BE-08328DA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FCA-E706-4794-B5C0-1362E32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145-00A6-4CBA-9DB1-471273D79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1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83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McKinney ISD</cp:lastModifiedBy>
  <dcterms:modified xsi:type="dcterms:W3CDTF">2013-10-01T17:19:21Z</dcterms:modified>
  <cp:revision>3</cp:revision>
  <dc:subject/>
  <dc:title>People of Mountains and Plains</dc:title>
</cp:coreProperties>
</file>